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0A5-F72D-44DC-AEAD-26BD5B78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198-B274-4794-BE21-7D177B27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570-2B12-4FC2-B803-4500C23B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D03-288B-4BD2-8C91-9BFFF0D3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FCF-912A-45FD-80AB-77E5AC0F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CCE-535A-4B7F-AD41-D457CED6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655-0EB1-4276-820A-58E09AC6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E87-839C-40BB-94CC-4375A59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C11-B795-4B1D-A214-FE006C8C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653-57AB-491B-83D1-97B8ECB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488-0679-4B4A-AEE1-2A73F35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74B-B1DB-4C8F-B587-B72B1AD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E77E-1863-4C81-B00C-6FE29EF83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28720" y="5302080"/>
            <a:ext cx="1228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عوتني إليك أت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ديتني الطريق مشي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سوى وجهِك ما رأ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وجهَ الضي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75680" y="5302080"/>
            <a:ext cx="113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ني منك إلي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أُلقي بعبئي ع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ا أنا جاثٍ لدي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ملأني صف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5:15Z</dcterms:modified>
  <cp:revision>2</cp:revision>
  <dc:subject/>
  <dc:title>PowerPoint Presentation</dc:title>
</cp:coreProperties>
</file>